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96C6-624E-453A-95B4-C2C74BFFA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0BB4-314D-4FE7-8E5C-906611B6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5992-FCEA-419D-A1A7-C0A416AE8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4794-77B6-4EC4-9A9D-CDCFC8692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2200-D258-4644-915A-4896E1E7B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26D13-A009-47C6-BEA7-204C2204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1B17-A179-48C3-A471-CBC395B4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F5629-1F89-451B-9C55-FE9D3D7F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5D76-8098-47F8-B504-B945E3C8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A2E3-B5E0-4F9B-AA0E-8C4A1EFE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E418-D270-4653-B2EC-6DAF7F9F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E7AB-090D-460D-B701-E974F2E1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23FD-D580-4513-BD4B-4071E799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BFCE-B31D-4AA9-953C-681EAD1F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08A7-EFD9-4742-8E1C-0A628220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BE60-874E-47AB-B96C-A65F35789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F21E1-C425-44AE-A8A9-5EC732C1B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66FE-56DB-406B-AAFB-CB070406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4753-395D-4EDF-AE63-F379C22A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90DA-E2B7-4AC5-99E9-C3FD8CCA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5930-4CBD-41A9-A97A-95E6E94B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7A10-8A08-4B91-A7BD-0804A500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FA6C-444B-434F-B0E9-65B8C358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C052-019E-4126-ABD7-F880FAD3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A522-AFC5-4531-A0BA-E6F52D7F1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46EA-032D-4978-9728-2CDBCA774CC7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c2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1371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e600"/>
                </a:solidFill>
                <a:latin typeface="SharnayExtralight"/>
              </a:rPr>
              <a:t>The Big Picture -</a:t>
            </a:r>
            <a:br>
              <a:rPr sz="4800"/>
            </a:br>
            <a:r>
              <a:rPr b="0" lang="en-US" sz="4800" spc="-1" strike="noStrike">
                <a:solidFill>
                  <a:srgbClr val="ffe600"/>
                </a:solidFill>
                <a:latin typeface="SharnayExtralight"/>
              </a:rPr>
              <a:t>Career Plann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44197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ule 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 Your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6415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600"/>
                </a:solidFill>
                <a:latin typeface="Times New Roman"/>
              </a:rPr>
              <a:t>T 1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1-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c2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3760" y="0"/>
            <a:ext cx="9120240" cy="6723360"/>
            <a:chOff x="23760" y="0"/>
            <a:chExt cx="9120240" cy="6723360"/>
          </a:xfrm>
        </p:grpSpPr>
        <p:pic>
          <p:nvPicPr>
            <p:cNvPr id="93" name="" descr=""/>
            <p:cNvPicPr/>
            <p:nvPr/>
          </p:nvPicPr>
          <p:blipFill>
            <a:blip r:embed="rId1"/>
            <a:srcRect l="0" t="0" r="0" b="4695"/>
            <a:stretch/>
          </p:blipFill>
          <p:spPr>
            <a:xfrm>
              <a:off x="23760" y="0"/>
              <a:ext cx="1500120" cy="14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1569960" y="28440"/>
              <a:ext cx="7543800" cy="64008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00200" y="0"/>
              <a:ext cx="7543800" cy="64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1520" y="1400040"/>
              <a:ext cx="0" cy="5077080"/>
            </a:xfrm>
            <a:prstGeom prst="line">
              <a:avLst/>
            </a:prstGeom>
            <a:ln w="19080">
              <a:solidFill>
                <a:srgbClr val="ffe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4720" y="6477120"/>
              <a:ext cx="856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Copyright  © 2005 by JoAnn Harris-Bowlsbey, Ed.D. and Nancy Perry, MSEd. All rights reserved. Permission granted by publisher to copy for student use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99840" y="759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2d83"/>
                </a:solidFill>
                <a:latin typeface="SharnayExtralight"/>
              </a:rPr>
              <a:t>Why Career Planning is Import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7040" y="1599840"/>
            <a:ext cx="6705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spend at least 35-40% of waking time at 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isfaction or dissatisfaction at work affects other parts of our li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work determines our income and, therefore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lifesty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415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600"/>
                </a:solidFill>
                <a:latin typeface="Times New Roman"/>
              </a:rPr>
              <a:t>T 1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-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c2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23760" y="0"/>
            <a:ext cx="9120240" cy="6723360"/>
            <a:chOff x="23760" y="0"/>
            <a:chExt cx="9120240" cy="6723360"/>
          </a:xfrm>
        </p:grpSpPr>
        <p:pic>
          <p:nvPicPr>
            <p:cNvPr id="102" name="" descr=""/>
            <p:cNvPicPr/>
            <p:nvPr/>
          </p:nvPicPr>
          <p:blipFill>
            <a:blip r:embed="rId1"/>
            <a:srcRect l="0" t="0" r="0" b="4695"/>
            <a:stretch/>
          </p:blipFill>
          <p:spPr>
            <a:xfrm>
              <a:off x="23760" y="0"/>
              <a:ext cx="1500120" cy="14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1569960" y="28440"/>
              <a:ext cx="7543800" cy="64008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00200" y="0"/>
              <a:ext cx="7543800" cy="64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1520" y="1400040"/>
              <a:ext cx="0" cy="5077080"/>
            </a:xfrm>
            <a:prstGeom prst="line">
              <a:avLst/>
            </a:prstGeom>
            <a:ln w="19080">
              <a:solidFill>
                <a:srgbClr val="ffe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4720" y="6477120"/>
              <a:ext cx="856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Copyright  © 2005 by JoAnn Harris-Bowlsbey, Ed.D. and Nancy Perry, MSEd. All rights reserved. Permission granted by publisher to copy for student use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99840" y="759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2d83"/>
                </a:solidFill>
                <a:latin typeface="SharnayExtralight"/>
              </a:rPr>
              <a:t>Why Career Planning is Import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1600200"/>
            <a:ext cx="6705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eople we work with typically become our frien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is a way to express our interests, skills, and val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is a way to structure our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415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600"/>
                </a:solidFill>
                <a:latin typeface="Times New Roman"/>
              </a:rPr>
              <a:t>T 1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-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c2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23760" y="0"/>
            <a:ext cx="9120240" cy="6723360"/>
            <a:chOff x="23760" y="0"/>
            <a:chExt cx="9120240" cy="672336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rcRect l="0" t="0" r="0" b="4695"/>
            <a:stretch/>
          </p:blipFill>
          <p:spPr>
            <a:xfrm>
              <a:off x="23760" y="0"/>
              <a:ext cx="1500120" cy="14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1569960" y="28440"/>
              <a:ext cx="7543800" cy="64008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00200" y="0"/>
              <a:ext cx="7543800" cy="64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41520" y="1400040"/>
              <a:ext cx="0" cy="5077080"/>
            </a:xfrm>
            <a:prstGeom prst="line">
              <a:avLst/>
            </a:prstGeom>
            <a:ln w="19080">
              <a:solidFill>
                <a:srgbClr val="ffe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4720" y="6477120"/>
              <a:ext cx="856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Copyright  © 2005 by JoAnn Harris-Bowlsbey, Ed.D. and Nancy Perry, MSEd. All rights reserved. Permission granted by publisher to copy for student use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99840" y="759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2d83"/>
                </a:solidFill>
                <a:latin typeface="SharnayExtralight"/>
              </a:rPr>
              <a:t>Possible Influences on Your </a:t>
            </a:r>
            <a:br>
              <a:rPr sz="3600"/>
            </a:br>
            <a:r>
              <a:rPr b="0" lang="en-US" sz="3600" spc="-1" strike="noStrike">
                <a:solidFill>
                  <a:srgbClr val="0c2d83"/>
                </a:solidFill>
                <a:latin typeface="SharnayExtralight"/>
              </a:rPr>
              <a:t>Career Cho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90920" y="1599840"/>
            <a:ext cx="624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ents and other relati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ach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ach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nsel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6415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600"/>
                </a:solidFill>
                <a:latin typeface="Times New Roman"/>
              </a:rPr>
              <a:t>T 1-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-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c2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23760" y="0"/>
            <a:ext cx="9120240" cy="6723360"/>
            <a:chOff x="23760" y="0"/>
            <a:chExt cx="9120240" cy="672336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rcRect l="0" t="0" r="0" b="4695"/>
            <a:stretch/>
          </p:blipFill>
          <p:spPr>
            <a:xfrm>
              <a:off x="23760" y="0"/>
              <a:ext cx="1500120" cy="14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569960" y="28440"/>
              <a:ext cx="7543800" cy="64008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600200" y="0"/>
              <a:ext cx="7543800" cy="64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41520" y="1400040"/>
              <a:ext cx="0" cy="5077080"/>
            </a:xfrm>
            <a:prstGeom prst="line">
              <a:avLst/>
            </a:prstGeom>
            <a:ln w="19080">
              <a:solidFill>
                <a:srgbClr val="ffe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4720" y="6477120"/>
              <a:ext cx="8562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Copyright  © 2005 by JoAnn Harris-Bowlsbey, Ed.D. and Nancy Perry, MSEd. All rights reserved. Permission granted by publisher to copy for student use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99840" y="759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2d83"/>
                </a:solidFill>
                <a:latin typeface="SharnayExtralight"/>
              </a:rPr>
              <a:t>Possible Influences on Your </a:t>
            </a:r>
            <a:br>
              <a:rPr sz="3600"/>
            </a:br>
            <a:r>
              <a:rPr b="0" lang="en-US" sz="3600" spc="-1" strike="noStrike">
                <a:solidFill>
                  <a:srgbClr val="0c2d83"/>
                </a:solidFill>
                <a:latin typeface="SharnayExtralight"/>
              </a:rPr>
              <a:t>Career Cho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14240" y="1523520"/>
            <a:ext cx="6248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ursewor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-time job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olunteer work (community servic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tracurricular activit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415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600"/>
                </a:solidFill>
                <a:latin typeface="Times New Roman"/>
              </a:rPr>
              <a:t>T 1-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-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nk of Your Life as a Personal Photo Album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anyone remember the first time you were asked, “What do you want to be when you grow up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id you answer that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that a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years a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Play the Dictator Gam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will be given an occupational profile and a copy of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 into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f you will play the role of a person in an occup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will ask questions from the list provi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your partner has guessed your occupation then switch r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llow-up questions after the activity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of you liked the occupation you were assign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of you disliked the occupation you were assign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had to be in this occupation, what do you think your life would be li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uch education would you ne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uch money would you mak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kinds of tasks would you be doing every 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llow-up questions after the activity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are some of the people who have influenced your interests, abilities and goal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led you to have a preference for a certain kind of work (or being driven away from it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ow has your coursework in school affected your thinking about your future occupation(s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9T20:20:32Z</dcterms:created>
  <dc:creator>Dr. David M. Reile</dc:creator>
  <dc:description/>
  <dc:language>en-US</dc:language>
  <cp:lastModifiedBy>ASD</cp:lastModifiedBy>
  <cp:lastPrinted>2001-05-29T20:50:20Z</cp:lastPrinted>
  <dcterms:modified xsi:type="dcterms:W3CDTF">2011-06-06T19:01:29Z</dcterms:modified>
  <cp:revision>39</cp:revision>
  <dc:subject/>
  <dc:title>Why Career Planning is Important</dc:title>
</cp:coreProperties>
</file>